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CEE1-6C09-4B17-9EF9-A759695A70F0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D586-E276-4EEE-A3EC-C11EBC4B17DE}" type="slidenum">
              <a:rPr b="0" lang="cy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A2A-BB37-49CF-A2C8-C8996965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75C-5585-4F00-9576-9F093D5E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696-2E8D-48A5-A7C2-6FC81049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113-1E93-41C1-A548-1333725B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65C9-513C-48D6-A487-3AA66CB2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2813-ED1C-47F3-A811-15419AFB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7D74-C82B-4B88-8304-EB72CBEF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EBE6-B201-4FB9-B676-05239A4A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89A8-94A7-47AF-9315-29BDF18E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7EFC-A037-4F87-A3D4-056B1880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5F0F-B4EF-4ED1-AAF0-AC913B84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7B2-DC8C-4457-951D-D12E577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96E4-7AC3-4901-B5D7-A9AC731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BE69-469E-4B0E-A31C-5414F55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D6F-05B1-4F54-9839-9FAB1F8B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CB14-0842-4AB7-9657-38503469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3A48-421E-4F7B-98DB-3DDD176E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6B3-27D4-4A2A-9653-4682B9B9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3F3-61C0-4586-8C1E-EF6AF63B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3ED-1C50-42F1-A03E-268CCBD1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426-65E4-419E-AD47-2DB7DF3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BE9-80C9-4BF4-A72D-CA403A35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702-0D8E-4E57-90DB-D9EC6B3A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695-F869-4AE0-AB00-556338F3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F326-9C54-4E97-AD98-588BF747FA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F739-457D-403C-A872-BFE3A5AAD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827000"/>
            <a:ext cx="7678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Sut i wneud hysbyseb teled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U 1.1.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Y Cynhyrch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Gwnewch sylwadau ar rolau neu elfennau marc</a:t>
            </a:r>
            <a:r>
              <a:rPr b="0" lang="cy-GB" sz="3200" spc="-1" strike="noStrike">
                <a:solidFill>
                  <a:srgbClr val="000000"/>
                </a:solidFill>
                <a:latin typeface="Verdana"/>
              </a:rPr>
              <a:t>hnata mewn perthynas â’ch cynhyrchiad. Cymharwch â’r byd go iawn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Y Cynhyrch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Awgrymiadau ar gyfer gwell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Pe byddech yn gwneud rhywbeth tebyg eto, beth fyddech chi’n ei newid a pha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19320" y="2438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ynop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29960" y="3657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639160" y="55627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wrdd sto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206760" y="44956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g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395280" y="49528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yfarwyddw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224760" y="2666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fyllf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580800" y="3581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to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5578920" y="556272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</a:t>
            </a:r>
            <a:r>
              <a:rPr b="0" lang="cy-GB" sz="2400" spc="-1" strike="noStrike">
                <a:solidFill>
                  <a:srgbClr val="000000"/>
                </a:solidFill>
                <a:latin typeface="Verdana"/>
              </a:rPr>
              <a:t>ia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613320" y="22096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wisgoe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Oval 14"/>
          <p:cNvSpPr/>
          <p:nvPr/>
        </p:nvSpPr>
        <p:spPr>
          <a:xfrm>
            <a:off x="3809880" y="3657600"/>
            <a:ext cx="1371600" cy="11430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2895480" y="28195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57200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502884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2819520" y="4038480"/>
            <a:ext cx="9903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9"/>
          <p:cNvSpPr/>
          <p:nvPr/>
        </p:nvSpPr>
        <p:spPr>
          <a:xfrm flipV="1">
            <a:off x="2514600" y="45716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20"/>
          <p:cNvSpPr/>
          <p:nvPr/>
        </p:nvSpPr>
        <p:spPr>
          <a:xfrm flipV="1">
            <a:off x="4038480" y="48006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4800600" y="47242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5181480" y="44197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23"/>
          <p:cNvSpPr/>
          <p:nvPr/>
        </p:nvSpPr>
        <p:spPr>
          <a:xfrm flipV="1">
            <a:off x="5181480" y="388584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rannu swyddi – pwy sy’n gwneud be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Gwneud rhestri – propiau, gwisgoedd, setiau et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efnyddio’r adnoddau sydd ar gael – byrddau stori, deunyddi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Meddwl am eich cynulleidfa darged – i bwy fydd 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</a:t>
            </a:r>
            <a:r>
              <a:rPr b="0" lang="cy-GB" sz="4000" spc="-1" strike="noStrike">
                <a:solidFill>
                  <a:srgbClr val="003366"/>
                </a:solidFill>
                <a:latin typeface="Verdana"/>
              </a:rPr>
              <a:t>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258920" y="2438280"/>
            <a:ext cx="17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f Gymeriad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258920" y="320040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wrthwynebwy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098160" y="2438280"/>
            <a:ext cx="106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wy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wrthda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345200" y="28195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Cw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335920" y="2819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6691320" y="2362320"/>
            <a:ext cx="1319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ychwely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rmalrwyd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116000" y="2421000"/>
            <a:ext cx="17906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258920" y="3213000"/>
            <a:ext cx="16477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3132000" y="2421000"/>
            <a:ext cx="107964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4343400" y="28954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334120" y="2819520"/>
            <a:ext cx="9903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732720" y="2349360"/>
            <a:ext cx="1214280" cy="122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4419720" y="33526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5257800" y="56386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5029200" y="5181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4495680" y="3809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46483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48006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2560320" y="4343400"/>
            <a:ext cx="1378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yfr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Dilynia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Digwyddiad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2590920" y="4191120"/>
            <a:ext cx="129528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23"/>
          <p:cNvSpPr/>
          <p:nvPr/>
        </p:nvSpPr>
        <p:spPr>
          <a:xfrm>
            <a:off x="4038480" y="342900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2895480" y="259092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25"/>
          <p:cNvSpPr/>
          <p:nvPr/>
        </p:nvSpPr>
        <p:spPr>
          <a:xfrm flipV="1">
            <a:off x="2895480" y="320004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26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27"/>
          <p:cNvSpPr/>
          <p:nvPr/>
        </p:nvSpPr>
        <p:spPr>
          <a:xfrm>
            <a:off x="464832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28"/>
          <p:cNvSpPr/>
          <p:nvPr/>
        </p:nvSpPr>
        <p:spPr>
          <a:xfrm>
            <a:off x="4724280" y="3657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29"/>
          <p:cNvSpPr/>
          <p:nvPr/>
        </p:nvSpPr>
        <p:spPr>
          <a:xfrm>
            <a:off x="4876920" y="4114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30"/>
          <p:cNvSpPr/>
          <p:nvPr/>
        </p:nvSpPr>
        <p:spPr>
          <a:xfrm>
            <a:off x="495288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1"/>
          <p:cNvSpPr/>
          <p:nvPr/>
        </p:nvSpPr>
        <p:spPr>
          <a:xfrm>
            <a:off x="5105520" y="5029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>
            <a:off x="5410080" y="5486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33"/>
          <p:cNvSpPr/>
          <p:nvPr/>
        </p:nvSpPr>
        <p:spPr>
          <a:xfrm>
            <a:off x="5562720" y="5943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34"/>
          <p:cNvSpPr/>
          <p:nvPr/>
        </p:nvSpPr>
        <p:spPr>
          <a:xfrm>
            <a:off x="5562720" y="6324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35"/>
          <p:cNvSpPr/>
          <p:nvPr/>
        </p:nvSpPr>
        <p:spPr>
          <a:xfrm>
            <a:off x="6019920" y="312408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36"/>
          <p:cNvSpPr/>
          <p:nvPr/>
        </p:nvSpPr>
        <p:spPr>
          <a:xfrm>
            <a:off x="632448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37"/>
          <p:cNvSpPr/>
          <p:nvPr/>
        </p:nvSpPr>
        <p:spPr>
          <a:xfrm>
            <a:off x="1675080" y="18813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aratif Lli</a:t>
            </a:r>
            <a:r>
              <a:rPr b="1" lang="cy-GB" sz="1800" spc="-1" strike="noStrike">
                <a:solidFill>
                  <a:srgbClr val="000000"/>
                </a:solidFill>
                <a:latin typeface="Times New Roman"/>
              </a:rPr>
              <a:t>nellol Clasurol – Dweud y St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676520" y="243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me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929240" y="3213000"/>
            <a:ext cx="8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rm</a:t>
            </a: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105000" y="2438280"/>
            <a:ext cx="1043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mest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lad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rm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345200" y="28195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we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5076720" y="2819520"/>
            <a:ext cx="18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lip o’r </a:t>
            </a: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nny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6516720" y="2349360"/>
            <a:ext cx="163656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ŷ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theulu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hap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1752480" y="243828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763640" y="3213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3200400" y="2438280"/>
            <a:ext cx="9144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343400" y="28954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5076720" y="2852640"/>
            <a:ext cx="15829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804000" y="2349360"/>
            <a:ext cx="1143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4419720" y="33526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5257800" y="56386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5029200" y="5181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4495680" y="3809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46483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8006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2411280" y="4343400"/>
            <a:ext cx="1525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yfres o glipiau</a:t>
            </a:r>
            <a:r>
              <a:rPr b="0" lang="cy-GB" sz="1600" spc="-1" strike="noStrike">
                <a:solidFill>
                  <a:srgbClr val="000000"/>
                </a:solidFill>
                <a:latin typeface="Times New Roman"/>
              </a:rPr>
              <a:t>’n dweud y stori’n weledol o’r toiled budr, y germau etc i doiled glân heb germ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2484360" y="4221000"/>
            <a:ext cx="1366920" cy="226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3"/>
          <p:cNvSpPr/>
          <p:nvPr/>
        </p:nvSpPr>
        <p:spPr>
          <a:xfrm>
            <a:off x="4038480" y="342900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2895480" y="259092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25"/>
          <p:cNvSpPr/>
          <p:nvPr/>
        </p:nvSpPr>
        <p:spPr>
          <a:xfrm flipV="1">
            <a:off x="2895480" y="320004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7"/>
          <p:cNvSpPr/>
          <p:nvPr/>
        </p:nvSpPr>
        <p:spPr>
          <a:xfrm>
            <a:off x="464832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4724280" y="3657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4876920" y="4114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495288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31"/>
          <p:cNvSpPr/>
          <p:nvPr/>
        </p:nvSpPr>
        <p:spPr>
          <a:xfrm>
            <a:off x="5105520" y="5029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32"/>
          <p:cNvSpPr/>
          <p:nvPr/>
        </p:nvSpPr>
        <p:spPr>
          <a:xfrm>
            <a:off x="5410080" y="5486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33"/>
          <p:cNvSpPr/>
          <p:nvPr/>
        </p:nvSpPr>
        <p:spPr>
          <a:xfrm>
            <a:off x="5562720" y="5943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5562720" y="6324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35"/>
          <p:cNvSpPr/>
          <p:nvPr/>
        </p:nvSpPr>
        <p:spPr>
          <a:xfrm>
            <a:off x="6012000" y="3213000"/>
            <a:ext cx="0" cy="31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36"/>
          <p:cNvSpPr/>
          <p:nvPr/>
        </p:nvSpPr>
        <p:spPr>
          <a:xfrm flipV="1">
            <a:off x="6516720" y="2971440"/>
            <a:ext cx="264960" cy="2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Cynhyrchu Ymarfero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Eich cynhyrchiad i fod yn </a:t>
            </a:r>
            <a:r>
              <a:rPr b="0" lang="sv-SE" sz="3200" spc="-1" strike="noStrike" u="sng">
                <a:solidFill>
                  <a:srgbClr val="000000"/>
                </a:solidFill>
                <a:uFillTx/>
                <a:latin typeface="Verdana"/>
              </a:rPr>
              <a:t>60 eiliad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ar y mwy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9a0000"/>
                </a:solidFill>
                <a:latin typeface="Verdana"/>
              </a:rPr>
              <a:t>Mae Cynllunio Perffaith yn Atal Perfformiad Gwa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000000"/>
                </a:solidFill>
                <a:latin typeface="Verdana"/>
              </a:rPr>
              <a:t>Rhaid i chi weithio fel tî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Y Cynhyrch</a:t>
            </a:r>
            <a:r>
              <a:rPr b="0" lang="cy-GB" sz="4400" spc="-1" strike="noStrike">
                <a:solidFill>
                  <a:srgbClr val="003366"/>
                </a:solidFill>
                <a:latin typeface="Verdana"/>
              </a:rPr>
              <a:t>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wedwch yn glir beth yw nod y cynhyrchi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isgrifiwch beth yw’r cynnyrch / gwasanae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wedwch ba mor llwyddiannus neu ddim oeddech chi a sut y cafodd neu sut na chafodd eich nod ei gwrd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3366"/>
                </a:solidFill>
                <a:latin typeface="Verdana"/>
              </a:rPr>
              <a:t>Y </a:t>
            </a: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Cynhyrch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Cynulleidfa Darg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wedwch yn glir bwy yw’r targed gan gyfiawnhau pam y gwnaethoch ddewis y gynulleidfa darged hon – eglurwch sut y bydd eich cynhyrchiad yn denu’r gynulleidfa darg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3366"/>
                </a:solidFill>
                <a:latin typeface="Verdana"/>
              </a:rPr>
              <a:t>Y Cynhyrchi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Amserlen neu ddosbarth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Dywedwch sut, pryd, lle a pham y bydd y cynhyrchia</a:t>
            </a:r>
            <a:r>
              <a:rPr b="0" lang="cy-GB" sz="3200" spc="-1" strike="noStrike">
                <a:solidFill>
                  <a:srgbClr val="000000"/>
                </a:solidFill>
                <a:latin typeface="Verdana"/>
              </a:rPr>
              <a:t>d yn cael ei ddosbarth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Amser – Diwrnod – Sianel </a:t>
            </a:r>
            <a:r>
              <a:rPr b="0" lang="cy-GB" sz="3200" spc="-1" strike="noStrike">
                <a:solidFill>
                  <a:srgbClr val="000000"/>
                </a:solidFill>
                <a:latin typeface="Verdana"/>
              </a:rPr>
              <a:t>– Lleoliad et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7:58:44Z</dcterms:created>
  <dc:creator>Castell Alun HS</dc:creator>
  <dc:description/>
  <dc:language>en-US</dc:language>
  <cp:lastModifiedBy>TimData</cp:lastModifiedBy>
  <dcterms:modified xsi:type="dcterms:W3CDTF">2015-05-06T18:21:01Z</dcterms:modified>
  <cp:revision>7</cp:revision>
  <dc:subject/>
  <dc:title>Year 10 Practical Production</dc:title>
</cp:coreProperties>
</file>